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37E-1FF2-4396-A3E0-B6B028DD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4B9-C949-4110-9544-A7C866C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C6286-173E-45CB-9014-296EE81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E0571-3E6D-4290-8E88-8E41680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EFA3-72B2-4CC4-9D38-88685FA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3D503-2B0A-490A-AF1B-9DD84DA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DDFCD-95DA-43E6-8FBD-559491B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4458-EC16-4D12-9D80-015900D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643FC-5B8F-4555-AF15-3421477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F12A-81A1-447E-9C5D-7320D859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0761-17D2-4058-AEC0-436FA3F5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9170-4EEC-413A-A782-99876C11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5C6-84C2-4DC9-80B3-56E3DD8E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676E1-E33B-4166-BA21-C1AD4E50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F5786-7C9C-47E1-BB0C-6084864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250A5-FF5B-4CB6-91E6-E56DB2EF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97717-1170-4097-AA16-28B8CA60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0F790-2841-4328-B390-B73D09A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A1BEF-E6A0-4C50-9EBA-B2CF693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AECE-098F-400B-9AF6-9EE10D6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3123C-F655-4F97-A132-5F388CD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76362-6D85-4733-8B1F-92FF9EFC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77370-19AB-4087-AE04-CFB2766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BA4-DC7D-4ACF-A342-FE19932F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CAEF4-4BB3-499E-9D3F-DE168050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97277-808B-4077-80AF-7B32F344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3D67-5BAB-4780-ADFC-8F94A64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307A-0854-4093-8C79-0BEA5F5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9B541-0940-4A7A-B4B2-AE642AC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C998D-B284-490E-A20D-664766A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0B97-9F43-4FB1-A459-D38D8A94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45C1-56B8-4030-ACD6-38500DD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29285-D8E1-4D85-8377-5AF5A49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48F62-DF87-44F8-9510-B12AEEB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F64A-A183-48F9-838D-888BD407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6B58-6EF5-42AA-BF91-F130B34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EE49-9D09-4E4B-9E58-961A8400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9390-7F88-4AFB-9394-BCE8000F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460BD-DCBC-42CA-AB51-2CB90F16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BEBB-A176-471B-820D-A2CD43A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5EBD2-E66D-449B-AAD1-BF9F7768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ABD4B-091D-40D0-8334-B58A450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59B0E-3CDD-4981-BE5D-0312A86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DCB79-77DA-422C-BFF3-F18C77B7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2892C-368F-4F9F-A8EC-D2346CF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8D1-5AF2-4613-BE03-54167A1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53297-6C36-424C-A2D3-41B5B24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951BA-FF3F-4936-A470-5E1D6357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78444-AF96-409D-BDB4-AF7ADED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2B03D-CDEA-4B6E-B473-339EC5D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7B1C-2C1D-4B9E-B544-2F616152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91BAA-366E-49FC-8041-A735961B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FD881-F4CB-4014-ACBA-BEE6CBA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2B493-91A9-4D49-B05A-80B92629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CB746-C682-4D11-B5AD-63E33BF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AB71F-D2AB-45F3-B4EB-B3953B01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A76-5DE8-4D50-99EB-0357DD3F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993EE-DB07-4C6C-8907-95E2C37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54FE1-908B-4B51-9E99-7B84790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47B75-4AFE-4948-A980-7C5F19D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C1903-1715-41D6-A0D2-B2EC747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3996B-42A8-4C54-BA5A-95ECB69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FF119-6392-4828-98F7-0B146907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8ED17-B4E6-41CF-98C6-E7C0603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3D273-C0CF-4389-A971-940856DF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66C71-6426-4263-B6F3-863ED5B9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5676D-5A37-4959-9AA5-73EF6EC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654B-8B8D-4022-901D-4236BD8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3B4A6-A6C4-4B76-A9DC-4340EB2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31639-C01C-4462-B784-180D616B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C1C38-6448-4997-97EF-34DD94E1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860FB-CAA5-4B51-8EDD-ECFB46B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130FA-5F16-4773-8EA5-9D4B2D0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88EE2-938C-4318-B5F5-718323A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7C8D0-229D-4F70-8F69-7ED4FB69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E499-B47B-411D-A71F-692289F5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1D807-423C-4E79-9EF9-CE32D1FE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95156-DC04-4D82-B1A2-0182EFE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A42-FB92-42FD-BB13-A7530388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B5C9C-28C6-4973-8422-BA9D03B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8A03F-CDF7-4D97-9D86-14ACF9BE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27366-845E-4EB2-8FA8-5415CA6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8ECED-829B-4551-BF1C-F15EEC88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FD7D3-ED8A-4BDB-9670-2126BB4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9DCCA-8735-4EC1-920F-84977F9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CEE8E-50BC-4787-AA4A-9035792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1E106-0A07-47F7-9149-95BF612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DA02A-2113-4A40-AD7A-204B59A6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A22A4-7224-46F8-B9FF-9A13A00B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9BF6-D456-40A6-8A11-8419D75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D9071-4C9D-4E1F-94C0-C1D5097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48223-C0AC-48BE-B049-9A429C9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660F2-9F6D-45A8-ABA4-83693E5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E500E-51B9-49D8-AABF-5EB593D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853ED-6BFE-4109-909F-816E91C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D0C76-9EF7-4646-B1D8-EF7783B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546E1-911D-4F0F-B799-479E64A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45236-71FA-4B45-9684-8FBD2CE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04102-B695-4266-83CF-87CDEB8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C8407-5A88-4266-B32C-E352AD6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96C4-1BD5-49D5-9F59-8C63892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15FF9-AA35-43BD-9D81-162667D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06F63-FCA7-4485-952B-6947A1C0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EB5D1-11EF-4D90-852F-6DBA25AC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1A92D-B515-4789-B869-8C3DA4E9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AF885-0E1F-4AFC-937A-48860755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83290-1E02-49CE-9D75-3F78E43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88983-8643-4E41-B41A-3501CB2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BB121-0151-425B-988B-64CF366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42109-6A17-4ACD-AC6F-313F30E8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0B4E1-F059-4C5F-9A09-DB03FBE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244-BC1B-4503-9083-276D4B08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E19D-C9D1-4E8F-8409-8C0F604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6B665-9BAD-4EFB-95EB-C7C91A9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B468A-03B4-4B76-8780-BD57EDF5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F1344-204E-497A-820D-DFA12E23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51997-8642-4A9E-8F35-862A1BE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DFF38-AC52-4638-9F48-B2CE75F4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49BE6-0029-429E-8389-73A96DD9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E783A-4D6A-40AA-928E-EFEBADB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D183D-1958-40FF-B095-1933C8AC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D1FF9-3AFC-4E29-B22C-E94AE6D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8AC8D-2DFF-47D9-A864-A15E58D6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3DBD-2F9E-405A-B355-D2CCB2E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56D85-E7DB-4136-8FD6-33F6D63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EEFB2-5A05-43B6-86E9-7893B99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DF02F-177C-4A32-92B2-A728226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33A70-5C4E-45C4-8797-907BBD1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00024-77F7-43EF-9380-080D85BC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601D6-9BEF-4EC3-A2E5-AA972928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80630-9E01-4F35-AE12-2B2EBC0C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A9309-8B64-4B54-98FA-D3AFA5BD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59DB6-9D7C-47F3-8FA5-B904B8A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5AAAF-E591-4B78-9F57-B7EC3A8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5FB3-A297-4760-92A7-1863613E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6427D-302E-40BC-8ED1-3B1F465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EEDBB-86FA-4829-8D29-BF4A5B9F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53749-5629-4D48-B95D-AA721B70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B04B8-E17A-4EE5-9131-C3E0E24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941CF-315D-4203-BC53-40743B9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A8745-4D3C-48CC-A79E-B9E9959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DF092-580B-4228-AE93-18D49F06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3E2C1-7781-4482-BA0C-602A8E5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7DCEC-A302-4841-8490-6AB2F4D9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984BF-81A2-49D1-B8A9-91B55CEC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0B7-41B0-4D56-9C7B-6E4A05FC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59D14-FCD4-4DA5-A1BF-3F007723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60C9D-C718-4B1D-A9F6-034BF2DD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CA8E2-9DF5-4F73-94C4-630314C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F99B5-AD95-4B09-B713-E6319B6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BDFD7-87CB-4007-9A28-D17AB2A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BAE92-9D67-43D4-B6A5-519FCD0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9789D-9F56-4083-8B5A-4447FC6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960CD-BFA4-4C3C-9CDD-A863558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41405-EEB9-46C1-9BDA-4E32DA4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9E18A-7C5A-4AB1-AF21-BD67209E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EF7-8D0D-4D3F-9647-9657CBD2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726AC-67EF-4339-AFF5-3FE2E7C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E8F8B-207A-40CD-81D4-D40495C0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12469-C479-4CD9-8CAA-41D940AF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F7007-8C55-44B1-8ADF-5C0DD000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36581-DFFF-401C-B40E-911BAA2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88944-6CB1-4559-BADB-DC2619E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355DBE-78F3-43D1-BE6E-D73ABC24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527B8-A58F-4068-B9D9-5807200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3CFED-D1DF-43B3-8F2D-D212381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178DA-7011-4BA7-99FF-4ADBB9D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BF6C-E5D8-448F-BC54-5A2A5665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4D2A3-4539-4AAA-B436-48C1B5E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DB784-3604-49ED-90E6-F860B999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0DDB4-472B-4EE1-BF97-C3DAC1C9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A1A4-C768-423D-8600-54227BC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AB12-5BDB-4740-8E33-5F2E44B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23D9-72F9-4D79-892D-4B6A92E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8EBD-ED06-45DA-9520-6D4AD046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5CA-2134-4AF6-BE75-51E95956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CA7A-FFAE-4557-AD8D-1A2D7B5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B898-7585-4C3F-9127-2D5DD2B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2E7A-D426-4C3D-A216-321EB22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C679-D849-446E-B4D8-6009EBF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A7C1-3E27-4F03-8E88-944D9C61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2E94-A22E-48E8-822D-64DF98E9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28C7-C6C2-4455-A33A-7910E870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608C-F5B3-41CC-81C8-02595D93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6BB3-2A54-494C-8348-055ABCA2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745A-CE8B-4988-8FF4-41F23E9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53A-A89B-4102-81F8-5B48E22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544D-A3AE-4A9A-8F32-5B2DDC6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6D8F-D1F9-48F7-B4C5-AE5FFFA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B4CE-5714-402C-B9CA-E670382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1D1D-844E-4C9E-9A66-8D35C85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0B9B-25C8-45BD-A3A3-AA2B90B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0AC8-F820-4957-A47F-5834A1C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1316-ADEC-4E72-BE38-DB4C793E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82A7-637E-4159-AEF2-74F5D5E0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F0B1-8732-4AB7-A935-82C2F722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F4AC-72DA-47C3-8FA0-9886DE65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C00-6E75-4E7A-8677-FEE1D359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D4CB-5059-4CD3-A891-6CA62FB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DDB3-6DBE-4302-8F93-7A867B2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7B2C8-D2D3-4B79-914D-E159A58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638A-37A2-4ABC-927D-20F8BF0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4B2CC-AD74-4715-8EDF-7FD8C7D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3CB5-7BDA-48F2-9A09-257BF42A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8B62-B1B1-4ABE-8236-76C8FFF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F318-2BFD-4884-8A7D-F1BD51A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2D91-A999-48FC-A092-0D9D7D2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C787-E9FD-498E-A9BB-E6EF0980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DBC-49D4-41AC-AAD6-44F91803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C3CD-D04A-4129-9D9F-1ACB6C5E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08B0-3883-4C10-84AD-641F093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B3B3-F45A-4FEC-AE84-A362182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77C13-DE36-4C74-9EA5-949407A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B9D3-972F-4183-9B8F-28254F2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A803-2BBC-4CC1-AAC9-141C6352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FDBB-D2F8-4174-9038-E6987E2F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7D05-EF80-4D25-954A-A918E46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B9C1-F9D4-4078-B94F-4BD51AD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2A7F-14D1-476E-81EF-56872CB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5DA-3A27-4F3D-8CC3-0160A75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4F33-EE63-4394-8F86-C8CF964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55AA-9095-4D7D-9E24-ECE91B23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B1D3-5C3F-4E6D-9493-D22F354F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45A7-AD0F-400F-BF10-559E8E46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41D9-4B55-4A04-B203-BA33CC6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7DC51-E932-4D83-A87B-08C0BD5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2CD6-77D3-46D5-B4E9-367CBDCF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C7A1-5842-4F09-8E31-C8E6056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BAF1-DAFC-4051-83BB-FEBEBAAF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5250-29D2-49C4-A06F-C9C76D6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CB5-D00F-44A4-9F35-55F23CF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B852-7A69-4410-80A5-10C8D09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B610-B2C4-49B3-B17A-9F362F0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95C4-E60E-442B-9BF8-016AE82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815A6-BB85-44D8-9F84-EB4DEE4D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7153-C348-4B47-9DD8-EEDB69B7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6995-8F5E-4980-8311-0A468F9C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2155-6510-4284-88FA-3625996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5637C-434F-4DD4-B75B-0F703DCC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A657-F09C-4881-BACE-1C0ECC4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F38B-91DB-494A-8D78-D9C0751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EE3-C68F-4E2F-9797-ECAD72F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C7E44-60E8-4D96-B7B0-FED8334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5CFE-2942-4327-B828-B864BDC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A8E4-0D4A-4166-97C6-FC6BFCE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A718-070B-45BE-8294-E09CF1F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9DE8-4852-4C01-9FEF-4835A849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95FB-ED6D-4872-AE60-D368CA8E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F815-A752-4B4E-9523-C8AD0479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8B82E-54E3-4C39-A633-AD089842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6D8CB-FED0-4DD8-A01E-F4DC81C1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26C35-55B7-4B59-BD33-5B318DAF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5F4-AAC6-4C88-BB4D-DA5148CB7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7E8-13B2-4ECB-AC9B-F9E1B1AB4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E4F-91F2-492B-8FE0-0E69F2ED8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265-8E2D-4A19-B2C4-45D82E810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2DFE-4573-4FCD-9631-A5A03024FE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710-88EA-474B-8ADD-6A753F25A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77C-8ADA-4A7E-9FD5-66E1D5764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2086-19D8-4C1B-AB4D-56E622360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1EB5-F714-45A4-88CB-A1223E763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7F56-D33F-4DF2-9202-54A4992C8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E28-03C1-4D46-9727-333D2378E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522A-A3AD-48BA-BE49-702075B77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4F9-D092-4E3F-896C-701BD5F06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1DF2-7E95-44AB-AC72-C76B024C8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791-5FB9-4222-A42E-A39257122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3AB-A247-441E-BD3E-9F3251826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38E2-589B-43C8-B6F4-725AB92EB3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FE3-0A19-4EE1-9C54-E2E5F44DB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ECB8-2559-44B6-B230-E29364138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607-5A21-46DE-A4B7-7AA77DAB1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3306-AB1A-410B-A15A-ACC00053AB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E0F-A7C4-4AB3-9BE8-0DD4253E3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C8B-124B-4442-ADCA-6EF75C641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321-D87C-44F0-B3B3-BCAB301E6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21A8-0A0C-44F2-84E6-52CEBF532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C3C-415D-4DCF-AB04-F393EE891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0A1-635C-4A93-BEF3-87D2DCFA3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1FE-B851-40A3-A9EF-A2761771A3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9660-3C75-49A0-9E56-C81EE751B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A0C-7746-44EB-81F0-AC80F752C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CA2-F377-41B8-86D0-7A926466BE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2A9-3FBE-4B2E-8654-7DF3078A7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5DFE-8150-42F1-93D3-2FDBAF243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E4FE-A4B4-4BDA-ADCE-FCD9EE102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C5D-3A25-4E2A-9573-34D4FBE5C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564-2FD8-4ED6-9366-270799BDC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1FE-0E33-47B4-9901-8B8FA3767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9228-A60C-4004-B05D-E437A83A2B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73F-D84C-40E4-AF7E-EAF28DE6E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42CC-3B61-42C6-86E1-6C7CF885B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57360" y="2962440"/>
            <a:ext cx="60292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9633" descr=""/>
          <p:cNvPicPr/>
          <p:nvPr/>
        </p:nvPicPr>
        <p:blipFill>
          <a:blip r:embed="rId1"/>
          <a:stretch/>
        </p:blipFill>
        <p:spPr>
          <a:xfrm>
            <a:off x="401760" y="189000"/>
            <a:ext cx="8562960" cy="62294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4427640" y="534960"/>
            <a:ext cx="576000" cy="500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6084720" y="1009800"/>
            <a:ext cx="935280" cy="500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5148360" y="200664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8609" descr=""/>
          <p:cNvPicPr/>
          <p:nvPr/>
        </p:nvPicPr>
        <p:blipFill>
          <a:blip r:embed="rId1"/>
          <a:stretch/>
        </p:blipFill>
        <p:spPr>
          <a:xfrm>
            <a:off x="258840" y="189000"/>
            <a:ext cx="8705880" cy="6296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576000" cy="500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5307120" y="1743120"/>
            <a:ext cx="57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67585" descr=""/>
          <p:cNvPicPr/>
          <p:nvPr/>
        </p:nvPicPr>
        <p:blipFill>
          <a:blip r:embed="rId1"/>
          <a:stretch/>
        </p:blipFill>
        <p:spPr>
          <a:xfrm>
            <a:off x="509760" y="1181160"/>
            <a:ext cx="8124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6561" descr=""/>
          <p:cNvPicPr/>
          <p:nvPr/>
        </p:nvPicPr>
        <p:blipFill>
          <a:blip r:embed="rId1"/>
          <a:stretch/>
        </p:blipFill>
        <p:spPr>
          <a:xfrm>
            <a:off x="1285920" y="1866960"/>
            <a:ext cx="6572160" cy="3124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08360" cy="500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5537" descr=""/>
          <p:cNvPicPr/>
          <p:nvPr/>
        </p:nvPicPr>
        <p:blipFill>
          <a:blip r:embed="rId1"/>
          <a:stretch/>
        </p:blipFill>
        <p:spPr>
          <a:xfrm>
            <a:off x="299880" y="793800"/>
            <a:ext cx="8544240" cy="55148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547640" y="2392200"/>
            <a:ext cx="3384720" cy="500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7524720" y="2952720"/>
            <a:ext cx="1368360" cy="500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258920" y="3530520"/>
            <a:ext cx="2808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4513" descr=""/>
          <p:cNvPicPr/>
          <p:nvPr/>
        </p:nvPicPr>
        <p:blipFill>
          <a:blip r:embed="rId1"/>
          <a:stretch/>
        </p:blipFill>
        <p:spPr>
          <a:xfrm>
            <a:off x="876240" y="1143000"/>
            <a:ext cx="7391520" cy="45720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3168720" cy="500040"/>
          </a:xfrm>
          <a:prstGeom prst="rect">
            <a:avLst/>
          </a:prstGeom>
          <a:ln w="0">
            <a:noFill/>
          </a:ln>
        </p:spPr>
      </p:pic>
      <p:grpSp>
        <p:nvGrpSpPr>
          <p:cNvPr id="1078" name="组合 64517"/>
          <p:cNvGrpSpPr/>
          <p:nvPr/>
        </p:nvGrpSpPr>
        <p:grpSpPr>
          <a:xfrm>
            <a:off x="1474920" y="1109520"/>
            <a:ext cx="7057800" cy="3953160"/>
            <a:chOff x="1474920" y="1109520"/>
            <a:chExt cx="7057800" cy="3953160"/>
          </a:xfrm>
        </p:grpSpPr>
        <p:pic>
          <p:nvPicPr>
            <p:cNvPr id="1079" name="图片 64515" descr=""/>
            <p:cNvPicPr/>
            <p:nvPr/>
          </p:nvPicPr>
          <p:blipFill>
            <a:blip r:embed="rId3"/>
            <a:stretch/>
          </p:blipFill>
          <p:spPr>
            <a:xfrm>
              <a:off x="1474920" y="1109520"/>
              <a:ext cx="6553080" cy="39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1" descr=""/>
            <p:cNvPicPr/>
            <p:nvPr/>
          </p:nvPicPr>
          <p:blipFill>
            <a:blip r:embed="rId4"/>
            <a:stretch/>
          </p:blipFill>
          <p:spPr>
            <a:xfrm>
              <a:off x="7956720" y="3213000"/>
              <a:ext cx="57600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60430"/>
          <p:cNvGrpSpPr/>
          <p:nvPr/>
        </p:nvGrpSpPr>
        <p:grpSpPr>
          <a:xfrm>
            <a:off x="228600" y="1341360"/>
            <a:ext cx="8736120" cy="3992760"/>
            <a:chOff x="228600" y="1341360"/>
            <a:chExt cx="8736120" cy="3992760"/>
          </a:xfrm>
        </p:grpSpPr>
        <p:pic>
          <p:nvPicPr>
            <p:cNvPr id="1024" name="图片 60428" descr=""/>
            <p:cNvPicPr/>
            <p:nvPr/>
          </p:nvPicPr>
          <p:blipFill>
            <a:blip r:embed="rId1"/>
            <a:stretch/>
          </p:blipFill>
          <p:spPr>
            <a:xfrm>
              <a:off x="228600" y="1523880"/>
              <a:ext cx="868680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1" descr=""/>
            <p:cNvPicPr/>
            <p:nvPr/>
          </p:nvPicPr>
          <p:blipFill>
            <a:blip r:embed="rId2"/>
            <a:stretch/>
          </p:blipFill>
          <p:spPr>
            <a:xfrm>
              <a:off x="7596360" y="1341360"/>
              <a:ext cx="1368360" cy="43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627280" y="2674800"/>
            <a:ext cx="792360" cy="312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6084720" y="2665440"/>
            <a:ext cx="432000" cy="312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2556000" y="3059280"/>
            <a:ext cx="720720" cy="312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4284720" y="304488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5940360" y="3059280"/>
            <a:ext cx="432000" cy="312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7515360" y="304488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4211640" y="3808440"/>
            <a:ext cx="1008000" cy="312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7221600" y="3730680"/>
            <a:ext cx="504720" cy="455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5508720" y="422100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2"/>
          <a:stretch/>
        </p:blipFill>
        <p:spPr>
          <a:xfrm>
            <a:off x="8101080" y="422100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3"/>
          <a:stretch/>
        </p:blipFill>
        <p:spPr>
          <a:xfrm>
            <a:off x="2556000" y="458136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4"/>
          <a:stretch/>
        </p:blipFill>
        <p:spPr>
          <a:xfrm>
            <a:off x="7308720" y="4591080"/>
            <a:ext cx="648000" cy="312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5"/>
          <a:stretch/>
        </p:blipFill>
        <p:spPr>
          <a:xfrm>
            <a:off x="3348000" y="4951440"/>
            <a:ext cx="719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9410" descr=""/>
          <p:cNvPicPr/>
          <p:nvPr/>
        </p:nvPicPr>
        <p:blipFill>
          <a:blip r:embed="rId1"/>
          <a:stretch/>
        </p:blipFill>
        <p:spPr>
          <a:xfrm>
            <a:off x="233280" y="1219320"/>
            <a:ext cx="8677440" cy="4419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317080" y="235908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4643280" y="4518000"/>
            <a:ext cx="649440" cy="312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2050920" y="4878360"/>
            <a:ext cx="649440" cy="312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7020000" y="4888080"/>
            <a:ext cx="1224000" cy="312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5435640" y="5257800"/>
            <a:ext cx="10810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8373" descr=""/>
          <p:cNvPicPr/>
          <p:nvPr/>
        </p:nvPicPr>
        <p:blipFill>
          <a:blip r:embed="rId1"/>
          <a:stretch/>
        </p:blipFill>
        <p:spPr>
          <a:xfrm>
            <a:off x="185760" y="1290600"/>
            <a:ext cx="8772480" cy="4276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8317080" y="170028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4745160" y="445140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2570040" y="5172120"/>
            <a:ext cx="9367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7352" descr=""/>
          <p:cNvPicPr/>
          <p:nvPr/>
        </p:nvPicPr>
        <p:blipFill>
          <a:blip r:embed="rId1"/>
          <a:stretch/>
        </p:blipFill>
        <p:spPr>
          <a:xfrm>
            <a:off x="214200" y="1405080"/>
            <a:ext cx="8715600" cy="40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2771640" y="4302000"/>
            <a:ext cx="4176720" cy="312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2771640" y="4672080"/>
            <a:ext cx="4176720" cy="312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2843280" y="5041800"/>
            <a:ext cx="41767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6324" descr=""/>
          <p:cNvPicPr/>
          <p:nvPr/>
        </p:nvPicPr>
        <p:blipFill>
          <a:blip r:embed="rId1"/>
          <a:stretch/>
        </p:blipFill>
        <p:spPr>
          <a:xfrm>
            <a:off x="262080" y="1281240"/>
            <a:ext cx="8619840" cy="42955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7956720" y="3284640"/>
            <a:ext cx="57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55300" descr=""/>
          <p:cNvPicPr/>
          <p:nvPr/>
        </p:nvPicPr>
        <p:blipFill>
          <a:blip r:embed="rId1"/>
          <a:stretch/>
        </p:blipFill>
        <p:spPr>
          <a:xfrm>
            <a:off x="243000" y="961920"/>
            <a:ext cx="8658000" cy="4934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7956720" y="2852640"/>
            <a:ext cx="57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4276" descr=""/>
          <p:cNvPicPr/>
          <p:nvPr/>
        </p:nvPicPr>
        <p:blipFill>
          <a:blip r:embed="rId1"/>
          <a:stretch/>
        </p:blipFill>
        <p:spPr>
          <a:xfrm>
            <a:off x="237960" y="719280"/>
            <a:ext cx="8668080" cy="54194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885080" y="1197000"/>
            <a:ext cx="576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2232" descr=""/>
          <p:cNvPicPr/>
          <p:nvPr/>
        </p:nvPicPr>
        <p:blipFill>
          <a:blip r:embed="rId1"/>
          <a:stretch/>
        </p:blipFill>
        <p:spPr>
          <a:xfrm>
            <a:off x="266760" y="1123920"/>
            <a:ext cx="8610480" cy="4610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4284720" y="4321080"/>
            <a:ext cx="576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1:4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